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5B5-D504-460F-A7B4-FAF4724D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331-89BA-44E2-9A5E-66C8CDB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2EA-69B1-4116-8A68-2316D40C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A7E-09B9-426E-B43E-259ACBFB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B66-5FDB-452D-B3FF-1C494A9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22C-8233-45EA-8B27-CBF199D1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4BC-4D8E-4041-85D6-5C555A04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2EC-BF2A-4938-85C7-E0012C4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771-66D0-4E2F-83C5-E0C4A173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945-7ED0-4E1A-B706-1A604A5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6F6-D7C5-4F2F-A7BA-1A83B30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219-937C-45DC-8AC9-99E4B0B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A876-16B6-44E6-83A3-F55EB34C2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240" y="204840"/>
            <a:ext cx="64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of Wizards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20224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7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1654200"/>
            <a:ext cx="73476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1841400"/>
            <a:ext cx="358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5840" y="20224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01600" y="22096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73840" y="20271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59600" y="22129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6200" y="165420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19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9800" y="20224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73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19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91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7000" y="20224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527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27360" y="16542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3120" y="1841400"/>
            <a:ext cx="358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202248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27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9960" y="18414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17800" y="202248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3560" y="2209680"/>
            <a:ext cx="3589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78160" y="16542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5720" y="184140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45000" y="20224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0760" y="22096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16542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91120" y="184140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68960" y="20224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56160" y="22096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0760" y="165420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18320" y="1841400"/>
            <a:ext cx="3553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1240" y="8232840"/>
            <a:ext cx="5437080" cy="631800"/>
            <a:chOff x="741240" y="8232840"/>
            <a:chExt cx="5437080" cy="631800"/>
          </a:xfrm>
        </p:grpSpPr>
        <p:sp>
          <p:nvSpPr>
            <p:cNvPr id="77" name=""/>
            <p:cNvSpPr/>
            <p:nvPr/>
          </p:nvSpPr>
          <p:spPr>
            <a:xfrm>
              <a:off x="744480" y="8232840"/>
              <a:ext cx="625320" cy="293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80960" y="8232840"/>
              <a:ext cx="625680" cy="293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t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17440" y="8232840"/>
              <a:ext cx="625680" cy="295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54280" y="8232840"/>
              <a:ext cx="625320" cy="295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0760" y="8232840"/>
              <a:ext cx="625320" cy="293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r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7240" y="8232840"/>
              <a:ext cx="625680" cy="293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64080" y="8232840"/>
              <a:ext cx="625320" cy="295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ung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1240" y="8526600"/>
              <a:ext cx="625320" cy="295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nt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7720" y="8526600"/>
              <a:ext cx="625680" cy="293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c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4560" y="8526600"/>
              <a:ext cx="625320" cy="293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51040" y="8526600"/>
              <a:ext cx="625320" cy="295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w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87520" y="8526600"/>
              <a:ext cx="625680" cy="295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nd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4360" y="8526600"/>
              <a:ext cx="625320" cy="2934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dw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60840" y="8526600"/>
              <a:ext cx="625320" cy="293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lc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49880" y="8240760"/>
              <a:ext cx="6253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kw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0160" y="8559720"/>
              <a:ext cx="93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nderwor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s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9000" y="12924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7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5840" y="1292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1600" y="14796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3840" y="12970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9600" y="14828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39800" y="12924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3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7000" y="12924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27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90960" y="129240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81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7800" y="129240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03560" y="1479600"/>
            <a:ext cx="3589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1292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30760" y="14796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8960" y="12924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6160" y="14796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440" y="27576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0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6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27576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03400" y="29448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5280" y="2762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61040" y="29480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8000" y="2389320"/>
            <a:ext cx="7318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63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41600" y="275760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340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8440" y="275760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420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14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92400" y="27576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9600" y="294480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456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1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19600" y="275760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05360" y="294480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238932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67160" y="257652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46440" y="27576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32200" y="294480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6800" y="2389320"/>
            <a:ext cx="7336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92560" y="257652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70400" y="275760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7960" y="294480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2560" y="238932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19760" y="25765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440" y="349416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62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080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6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7640" y="349416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3400" y="3681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75280" y="3498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61040" y="368460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8000" y="3125880"/>
            <a:ext cx="7318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63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41600" y="349416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0340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060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8440" y="349416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2880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14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2400" y="349416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9600" y="368136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5456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41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9600" y="349416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05360" y="368136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79960" y="3125880"/>
            <a:ext cx="7351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7160" y="33130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6440" y="349416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2200" y="3681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06800" y="3125880"/>
            <a:ext cx="73368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92560" y="33130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70400" y="349416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57960" y="368136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2560" y="3125880"/>
            <a:ext cx="733320" cy="73476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19760" y="33130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423072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80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7640" y="423072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03400" y="441792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2354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61040" y="442116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000" y="386244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63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1600" y="423072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340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060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8440" y="423072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5420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2880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4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92400" y="423072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9600" y="441792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5456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1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9600" y="423072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05360" y="441792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79960" y="386244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7160" y="404964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46440" y="423072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32200" y="441792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06800" y="386244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560" y="40496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70400" y="423072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57960" y="441792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2560" y="386244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9760" y="40496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440" y="49672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62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0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6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7640" y="4967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03400" y="51544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75280" y="4971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61040" y="515772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8000" y="459900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3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1600" y="496728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0340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060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8440" y="496728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5420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880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4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92400" y="49672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9600" y="515448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41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9600" y="496728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05360" y="515448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79960" y="459900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67160" y="478620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46440" y="496728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2200" y="515448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06800" y="459900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92560" y="478620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0400" y="496728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7960" y="515448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2560" y="459900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9760" y="478620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440" y="570384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62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080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6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7640" y="5703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03400" y="589104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75280" y="570852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61040" y="58942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78000" y="533556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63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41600" y="5703840"/>
            <a:ext cx="73476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0340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060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8440" y="5703840"/>
            <a:ext cx="7336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420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2880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4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92400" y="570384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9600" y="5891040"/>
            <a:ext cx="3574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5456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41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9600" y="5703840"/>
            <a:ext cx="7333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05360" y="5891040"/>
            <a:ext cx="35856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9960" y="533556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67160" y="552276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46440" y="570384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32200" y="589104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06800" y="533556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92560" y="5522760"/>
            <a:ext cx="3589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0400" y="5703840"/>
            <a:ext cx="73512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57960" y="5891040"/>
            <a:ext cx="35712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32560" y="533556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9760" y="552276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440" y="644040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62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080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6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17640" y="644040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3400" y="662796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75280" y="644508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61040" y="6630840"/>
            <a:ext cx="35568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78000" y="607212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3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41600" y="6440400"/>
            <a:ext cx="73476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0340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9060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68440" y="6440400"/>
            <a:ext cx="7336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5420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880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92400" y="644040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9600" y="6627960"/>
            <a:ext cx="3574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5456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41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19600" y="644040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05360" y="6627960"/>
            <a:ext cx="35856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79960" y="607212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67160" y="62596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46440" y="644040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32200" y="662796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06800" y="607212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2560" y="625968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0400" y="644040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57960" y="662796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2560" y="607212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19760" y="625968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440" y="717696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62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080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6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7640" y="7176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03400" y="736452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5280" y="7182000"/>
            <a:ext cx="731880" cy="7333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61040" y="736776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6808680"/>
            <a:ext cx="7318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63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41600" y="7176960"/>
            <a:ext cx="73476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0340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9060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8440" y="7176960"/>
            <a:ext cx="7336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420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2880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14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2400" y="717696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9600" y="7364520"/>
            <a:ext cx="3574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5456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41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19600" y="7176960"/>
            <a:ext cx="7333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05360" y="7364520"/>
            <a:ext cx="35856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9960" y="6808680"/>
            <a:ext cx="7351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67160" y="699624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46440" y="7176960"/>
            <a:ext cx="73188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32200" y="7364520"/>
            <a:ext cx="35568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6800" y="6808680"/>
            <a:ext cx="73368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92560" y="6996240"/>
            <a:ext cx="35892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70400" y="7176960"/>
            <a:ext cx="735120" cy="7336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57960" y="7364520"/>
            <a:ext cx="35712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2560" y="6808680"/>
            <a:ext cx="733320" cy="735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19760" y="6996240"/>
            <a:ext cx="35568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1603440" y="642960"/>
            <a:ext cx="3367080" cy="4414680"/>
            <a:chOff x="1603440" y="642960"/>
            <a:chExt cx="3367080" cy="4414680"/>
          </a:xfrm>
        </p:grpSpPr>
        <p:grpSp>
          <p:nvGrpSpPr>
            <p:cNvPr id="350" name=""/>
            <p:cNvGrpSpPr/>
            <p:nvPr/>
          </p:nvGrpSpPr>
          <p:grpSpPr>
            <a:xfrm>
              <a:off x="1603440" y="642960"/>
              <a:ext cx="625680" cy="4414680"/>
              <a:chOff x="1603440" y="642960"/>
              <a:chExt cx="625680" cy="4414680"/>
            </a:xfrm>
          </p:grpSpPr>
          <p:sp>
            <p:nvSpPr>
              <p:cNvPr id="351" name=""/>
              <p:cNvSpPr/>
              <p:nvPr/>
            </p:nvSpPr>
            <p:spPr>
              <a:xfrm>
                <a:off x="1603440" y="642960"/>
                <a:ext cx="625680" cy="29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ct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3440" y="2997000"/>
                <a:ext cx="625680" cy="29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t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440" y="936720"/>
                <a:ext cx="625680" cy="295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e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3440" y="3290760"/>
                <a:ext cx="625680" cy="295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re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440" y="1231920"/>
                <a:ext cx="625680" cy="293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03440" y="3585960"/>
                <a:ext cx="625680" cy="29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il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3440" y="1525680"/>
                <a:ext cx="625680" cy="295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ung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603440" y="3879720"/>
                <a:ext cx="625680" cy="2952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nt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03440" y="1820880"/>
                <a:ext cx="625680" cy="2937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ce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03440" y="4174920"/>
                <a:ext cx="625680" cy="293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i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03440" y="2114640"/>
                <a:ext cx="625680" cy="2952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wa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03440" y="4468680"/>
                <a:ext cx="625680" cy="2952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und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03440" y="2409840"/>
                <a:ext cx="625680" cy="2937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dwl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03440" y="4763880"/>
                <a:ext cx="625680" cy="2937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olc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03440" y="2705040"/>
                <a:ext cx="625680" cy="29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kw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225880" y="64296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ght Turquo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5880" y="299700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5880" y="93672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25880" y="329076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5880" y="123192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right Gr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25880" y="358596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25880" y="152568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25880" y="387972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Yel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25880" y="182088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urquo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25880" y="417492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o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25880" y="211464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25880" y="4468680"/>
              <a:ext cx="136692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% Gr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5880" y="240984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rk 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25880" y="476388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r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25880" y="2705040"/>
              <a:ext cx="136692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3960" y="64296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03960" y="299700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lined Diam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03960" y="93672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mall Confet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03960" y="329076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ing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960" y="123192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03960" y="358596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03960" y="152568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v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03960" y="387972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igz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03960" y="182088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3960" y="417492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Ver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3960" y="211464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Horizon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3960" y="4468680"/>
              <a:ext cx="136656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3960" y="240984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shed Up Diag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3960" y="476388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rge Confet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03960" y="2705040"/>
              <a:ext cx="136656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9T00:44:26Z</dcterms:created>
  <dc:creator>NUR0O</dc:creator>
  <dc:description/>
  <dc:language>en-US</dc:language>
  <cp:lastModifiedBy>Ronny A. Olson</cp:lastModifiedBy>
  <cp:lastPrinted>1999-05-05T17:30:45Z</cp:lastPrinted>
  <dcterms:modified xsi:type="dcterms:W3CDTF">1999-06-02T02:38:30Z</dcterms:modified>
  <cp:revision>23</cp:revision>
  <dc:subject/>
  <dc:title>No Slide Title</dc:title>
</cp:coreProperties>
</file>